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3D08-7708-40F3-A545-D4B4944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2D62-76E5-4CF0-B02A-D66B5E0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0D9E-7AFF-47C7-9221-4506555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8EDF-3239-49D4-AB52-4805A65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DF8F-6C86-4E4F-98C8-70C66E8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23F7-C2A6-4135-AA26-9DB1AA4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9A3A-2B9D-4417-9AE9-E033E66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4350-BA72-4199-84D0-31EBE2B2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D2DE-3F8E-4F21-8C82-9F7E7FA8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521A-C048-4A9B-BCA2-8CC0A9FA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3089-6C49-45A1-8691-EBC3002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3798-6314-48F2-905C-2F5C6B8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8D1F-48AF-4597-9A57-F3C34935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8B90-4216-4E5E-8427-2FEAC36E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1AE0-832B-4E6E-B564-1823710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4EB6-2E5B-4EDA-8399-76165B9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D8B2-AA38-4392-B1A4-926B065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395E-C50E-4412-827A-1AF788F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3453-681A-4B18-AA45-FF336D4C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DD63-596E-48B0-AD6D-DF2099A5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6B8D-AD45-46DB-A75B-9D7E44C3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9E4-5A8D-4956-9E1D-953985CD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0D6-C89C-4343-82DA-5CD6EEB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2EF-6816-4182-B600-B9FE5D7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8D2-F074-4292-B77B-D61D76DA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CF2-8C32-430C-A782-DF9E22F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54A-381C-4FBC-B823-1F8F9CCF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89F-344E-43E4-BA49-0B2ADD7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FF1-A1CC-4856-B529-73EE47F0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D65-2D30-4FB0-AC8D-CD83183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251-7D06-46EB-BDBB-029AE7B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3E0-DCBA-4698-B8B8-AE628415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412-A043-46D6-8E70-81453832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3FF9-B284-4651-9BA6-3CF48108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4E00-1982-4DF3-B641-DB09CB9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CF16-8F4D-4BF7-86F0-69F61C2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111D-CB31-4DB7-A591-71A7156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757-2BE2-444F-940F-430939B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6E2-6ECF-4ED8-A54B-4D755E0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03F-4F7D-4242-8A5D-B5197E8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B457-FEE3-46D1-B3EF-0498290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F35-6FBF-45A1-9949-7401CCC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3E9-661F-4CB3-8415-5A1DC75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17A1-A96A-4EE5-9E37-2452019C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452-88CB-4DCD-9E76-61A8AB4B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EA63-8DAE-4FCB-B799-05D5C04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827D-A08E-4A12-AFDD-805AFC25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8BA4-2D29-4980-B398-AB91BBE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4C3-C81C-4388-A04C-C3AF71E6500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560-3FCF-4547-8DD4-DAE5AB0067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B40-1A1C-4F62-BC15-6B97FAC083D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0C6-692A-468F-BFE8-10B3107976D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63360" y="1822320"/>
            <a:ext cx="910620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 on soil quality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63360" y="4508640"/>
            <a:ext cx="8972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89D-9625-4152-93B0-FE2A29BD227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4"/>
          <p:cNvSpPr/>
          <p:nvPr/>
        </p:nvSpPr>
        <p:spPr>
          <a:xfrm>
            <a:off x="8582040" y="60480"/>
            <a:ext cx="5032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8E0-BDEE-4519-B624-F439E0D6F72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-15840" y="63183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Steps for soil quality indexing (Andrews et al.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326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8675640" y="0"/>
            <a:ext cx="46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8D9-1D3E-460F-8DAE-BF5F75D7E49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2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A2BF-2515-4D35-9A6D-A42B001FFF6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2A7-02DF-451B-A53A-43A4C972BAC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1AA-0349-49E6-B473-9B8FF865632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E479-19EB-4B01-9DF4-FD3071BFD46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5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33B-2086-4F61-A83E-11D0D96D729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1822320"/>
            <a:ext cx="91440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chem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soil biolog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reduced soil phys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A5D-61F8-4EA2-848A-916BF3A26D0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55440" y="1989000"/>
            <a:ext cx="446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30240" y="285264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-scale crop-livestock farmers may corral sheep and goat as a means of soil fertility restoration with 7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eep and goat for minimal damage on phys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373-835A-467B-85A6-18AE50D54B5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4EE7-394E-4D70-A1A3-F78CDE421CA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-scale crop-livestock system predominate in sub-Sahara Africa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 mono-gastr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C13-407F-4923-8670-35D1AD6F56A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23880" y="936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08000" y="141300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-14400" y="1989000"/>
            <a:ext cx="9099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in this system restore soil fertility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ing manure from stall and spreading o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animals on fallow fields between cropping s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turns both manure and urine to the soil and results in greater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 data on stocking density of livestock corralling on soil properties and soil quality index is limited in West Africa especially Gh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05960" y="7142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CFF1-503B-4FD1-A4D2-76B16C232D1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2627280" y="97308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0" y="1700280"/>
            <a:ext cx="9131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effect of stocking density of sheep and goat corralling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quali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E90-6A25-4A9D-A30E-5FDF7CD320C6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0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008D-8600-48CE-9B0C-25D71534E3B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F5E-B36C-4C69-A8E8-76D4C561816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17640" y="1441440"/>
            <a:ext cx="91263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BD with 8 re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 (SDSG) at 0, 70,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niger et al., 20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rralling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omposition of sheep (55%) and goat(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ive weight of 27±2.0 for sheep and 24±1.5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p and goat were corralled from 19:00-06:00 hours GMT with no feed and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772-C628-4D2A-89F6-AB8D1764FB7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E45-21C3-4BA4-9789-86B00176FDA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7093080" y="-100080"/>
            <a:ext cx="205092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50:08Z</dcterms:modified>
  <cp:revision>993</cp:revision>
  <dc:subject/>
  <dc:title>Diapositiva 1</dc:title>
</cp:coreProperties>
</file>